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CCA8-D010-4BF4-88A4-41510CC5A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9AA2-0D84-41FE-ACDA-97F4BCD6A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255A-9E68-4827-A60B-283F9A8DE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1C53-9928-43CD-8D2B-4097DB592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definition is really at the heart of geography.  Maps are the tools of geographers:  If something can be mapped, it’s geograp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39D6-A76E-44EB-A265-E8A1506D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A93-E1AB-459B-808D-D715C002E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1A1-C77D-45D9-8B7C-8221ACD7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057-2295-466B-8B40-4F9DF9A1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518-55FE-46FD-BBBC-A7765B36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ECA-BC79-4CF2-B498-508DD5BA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DDBAF-FCAB-4BFC-9F91-015A6CBC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E2934-E965-470C-A7F1-CA96EDE5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D21F1-86B4-49AB-AC32-D3C498D7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071B4-EC44-45C5-A81A-6D3EB812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85D3F-4729-4C03-8754-9426930C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DDCFF-CFA2-4D21-861E-247E9D29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E391B-42C9-4937-B44D-7EFF7EDA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B244-7EAF-495C-82F3-68AEECEA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C8FBF-ED34-4463-AA73-6A74A462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F7114-7E79-433B-887A-9FC5B9FD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16563-77BB-4F4F-A83D-2256AB1E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FF9CB-FA80-416B-B972-3F9E3FBF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31E1D-6C12-4702-A707-EA039A62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08E-C184-4DBF-A756-33A76294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8B1-4B54-4D90-8BB9-713D6846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C7F-9FC5-499D-91E6-95A4AC71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B96-CCF1-40CD-AC02-A9780021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70D-C65D-46CF-9880-63E2AD93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DD94-14E7-44BB-9E2B-763F090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B74-8B4C-47C6-9E87-1FC3E96D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9346-2564-4CDE-8314-128B090BD9F8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23A2-7233-4286-8B0F-0F3F87B2FE77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Chapter 1:</a:t>
            </a:r>
            <a:br>
              <a:rPr sz="5400"/>
            </a:b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The World of Geography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lac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s includes a location’s physical and human featur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o describe physical features, you might say that the climate is hot or cold or that the land is hilly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o describe human features, you might discuss how many people live there, what types of work they do, or what they do for fu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Human-Environment Intera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 do people adjust to and change their environment?  How does the environment adjust to and change the people?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_____________________________________________________________________________________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Movemen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xplains how _______________________ ___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elps geographers understand cultural change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g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 region has a unifying characteristic, like ___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n maps, geographers use color and shape or special symbols to show regions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Geographer’s Tool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Globes and Maps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s people explored the Earth, they collected information about i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_____________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best way was to put it on a globe, a round ball that represented the Earth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Because globes are not practical or easy to use to carry, _______________ were invented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ever, the earth is round and a map is fla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pmakers had to find ways to make maps 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89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Tahoma"/>
              </a:rPr>
              <a:t>How Latitude and Longitude Form the Global Grid</a:t>
            </a:r>
            <a:endParaRPr b="0" lang="en-US" sz="3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8760" y="2028960"/>
            <a:ext cx="2889360" cy="3609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75120" y="2028960"/>
            <a:ext cx="2766960" cy="3457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29200" y="2028960"/>
            <a:ext cx="2951280" cy="368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Hemispher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9440" y="990720"/>
            <a:ext cx="4337280" cy="5638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22800" y="990720"/>
            <a:ext cx="499248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lobes and Map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most accurate way to present information on the islands, continents, and bodies of water of the world is to put it all on a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________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a round ball like the Earth itself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 only difference between a globe and the Earth itself is the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__________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or size, represented on the globe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Globes have a disadvantage: They cannot be complete enough to be useful and at the same time be small enough to be convenient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refore, people invented 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Comic Sans MS"/>
              </a:rPr>
              <a:t>Chapter 1: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Comic Sans MS"/>
              </a:rPr>
              <a:t>What is Geography?</a:t>
            </a:r>
            <a:endParaRPr b="0" lang="en-US" sz="4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*</a:t>
            </a: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t is the study of our earth; our home.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Comic Sans MS"/>
              </a:rPr>
              <a:t>OR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*Anything that can be mapped!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ps try to show the Earth, which is round, on a flat surface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s causes </a:t>
            </a: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distortion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, or a change in accuracy of the shapes and distances of places.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_________________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118120" y="1371600"/>
            <a:ext cx="387360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n 1569, a geographer named Gerardus Mercator created a flat map to help sailors navigate long journeys across the glob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Mercator projection, or method of putting a map of the Earth onto a flat piece of paper, is used by nearly all deep-sea navigato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 Mercator projection is a conformal map, meaning that it shows correct shapes, but not true distances or siz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ere are many types of other projections of the glob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etting It All On the Map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622520"/>
            <a:ext cx="4918320" cy="4471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4600" y="1293840"/>
            <a:ext cx="4626000" cy="368280"/>
          </a:xfrm>
          <a:prstGeom prst="rect">
            <a:avLst/>
          </a:prstGeom>
          <a:solidFill>
            <a:srgbClr val="5b9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d93ff"/>
                </a:solidFill>
                <a:latin typeface="Arial"/>
              </a:rPr>
              <a:t>The World: Mercator Proje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0" y="83808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re are many ways to show a globe on a flat map. The interrupted projection map, on the left, shows real sizes and shapes of continents. The equal area map , below left, shows size accurately. The Peters projection, below, shows land and oceans areas and correct directions accurate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World: Three Project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0" y="914400"/>
            <a:ext cx="4647960" cy="2742840"/>
            <a:chOff x="0" y="914400"/>
            <a:chExt cx="4647960" cy="27428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rcRect l="613" t="0" r="0" b="0"/>
            <a:stretch/>
          </p:blipFill>
          <p:spPr>
            <a:xfrm>
              <a:off x="0" y="914400"/>
              <a:ext cx="464796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0" y="914400"/>
              <a:ext cx="275256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terrupted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" y="3886200"/>
            <a:ext cx="4063680" cy="2819160"/>
            <a:chOff x="457200" y="3886200"/>
            <a:chExt cx="4063680" cy="281916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457200" y="3965760"/>
              <a:ext cx="4063680" cy="27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57200" y="3886200"/>
              <a:ext cx="229536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Equal-Area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838760" y="3570120"/>
            <a:ext cx="4076280" cy="2982240"/>
            <a:chOff x="4838760" y="3570120"/>
            <a:chExt cx="4076280" cy="2982240"/>
          </a:xfrm>
        </p:grpSpPr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4838760" y="3662280"/>
              <a:ext cx="4076280" cy="28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838760" y="3570120"/>
              <a:ext cx="2034000" cy="30708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eters Projection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World: A Robinson Projec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1447920"/>
            <a:ext cx="9143640" cy="5104800"/>
            <a:chOff x="0" y="1447920"/>
            <a:chExt cx="9143640" cy="51048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0" y="1499760"/>
              <a:ext cx="9143640" cy="505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830480" y="1525680"/>
              <a:ext cx="2107800" cy="210600"/>
            </a:xfrm>
            <a:prstGeom prst="rect">
              <a:avLst/>
            </a:prstGeom>
            <a:solidFill>
              <a:srgbClr val="5d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84240" y="1447920"/>
              <a:ext cx="19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56b8d6"/>
                  </a:solidFill>
                  <a:latin typeface="45 Helvetica Light"/>
                </a:rPr>
                <a:t>ARCTIC OCEA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Parts of a Map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Compass Ros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 compass rose is a ________________. It tells the cardinal directions, which are north, south, east, and west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Sca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e scale on a map tells you the relative distance on the map to the real world. For example, a map’s scale may tell you that ______ ______________________________________________________________________________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p:transition>
    <p:wipe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Key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e key, or legend, on a map explains what __________________________________________________________________________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Tahoma"/>
              </a:rPr>
              <a:t>Grid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ome maps use a grid of parallels and meridians. On a map of a small area, letters and numbers are often used to help you find your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*Geography mixes up the physical and human aspects of our world into one field of study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*Geography shows the relationship between people and the environment.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What is a geographer?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Someone who analyzes the Earth from many points of view.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Five Themes of Geograph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re are five ways to look at the earth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When geographers work, they are guided by two basic questions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______________________________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______________________________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980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To find these answers, geographers use five themes to organize informa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ngs that geographers study: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__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lant lif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andforms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__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ow the Earth and its people affect each other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66"/>
                </a:solidFill>
                <a:uFillTx/>
                <a:latin typeface="Tahoma"/>
              </a:rPr>
              <a:t>The Five Themes: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____________ – Geographers begin to study a place by finding where it is, or its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_____________ – Geographers study the physical and human features of a loca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_______________________________ – Geographers study how people affect or shape physical characteristics of their natural surroundings and how does their surroundings (environment) affect them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 – Helps explain how people, goods, and ideas get from one place to another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____________________ – Geographers compare the climate, land, population, or history of one place to another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Location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There are two ways to think about location:</a:t>
            </a:r>
            <a:endParaRPr b="0" lang="en-US" sz="36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bsolute location – _______________ _______________________________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elative location – explains where a place is by describing places near it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wlTeacher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01:57:15Z</dcterms:created>
  <dc:creator>Anna Bettencourt</dc:creator>
  <dc:description/>
  <dc:language>en-US</dc:language>
  <cp:lastModifiedBy>Anna Bettencourt</cp:lastModifiedBy>
  <dcterms:modified xsi:type="dcterms:W3CDTF">2011-02-22T20:24:18Z</dcterms:modified>
  <cp:revision>13</cp:revision>
  <dc:subject/>
  <dc:title>Unit 1: An Overview of Geography **************************</dc:title>
</cp:coreProperties>
</file>